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E8D-7AED-4ACD-8CD7-AB569261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35-0ECA-48A6-BA46-EF963075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285DE-EF95-4DB3-80E3-82E8746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06DD-3554-4479-9123-A573A1E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53043-005E-4459-9CD3-D41DFD9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B468-C071-42FF-AAFE-BCC255AB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ADD4A-F8F4-4180-9110-73370C0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8709-B852-4CF4-91F7-4BE5BF0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63B6C-6E0B-4551-9AB2-7AA62EA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8818C-945E-4A94-A936-A88E8048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7A6B-4C58-4C3B-B6C6-A2856156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DD931-76A9-4D24-911F-2E8B59C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B35-35C5-4195-B757-D81709E8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7019C-2B7E-48D1-931F-30DE699F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86BBB-76D4-48DA-A8A6-D684238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4F4ED-6C15-4EA4-8F9E-AC83C0C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67973-6006-431F-B29A-0DD918E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1C4B-6FC4-4F5E-82AB-17764BF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D2D6A-AB51-4DF3-9BE5-7529BFE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C67C3-B7FD-484D-BB33-81900EB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51A3C-FE02-46D9-BE47-0748A6E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2A00C-5600-4CFC-B9A9-9A81878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BEE8-4241-4D6E-B2FD-AC64F05F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002-0ED6-4EAE-8786-E9ECBE27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BF547-7CCB-4CB8-B5E3-FBA3511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CE9C-4C08-4D59-8867-976092AE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B838C-D4C3-4748-A35C-FDF9365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F3E98-E140-444B-AAF6-8AE72863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D9209-A798-431B-83EB-B41F527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D2673-040C-4442-B7ED-3D41459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68B2A-C2A9-48F3-8EBA-0B13D4B2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E621E-099C-41CE-AD7B-42FA452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72EE-85E9-4BC7-B9F4-D66F739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4DCB-4F6F-47F0-97D4-7D602CB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7750-847C-40A5-9B77-9E4AD816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77BC9-C6F3-449B-8A06-4FB51174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A15BA-6FEE-4F12-A19F-5B10DBC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09744-044D-4308-BA80-75B63D5F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98EF6-A4CA-407C-B2CC-88F47E0E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8C34D-3433-42BF-8E14-9EF5CD65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6B427-920E-491E-9E45-EDD46100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2E26A-FFE1-44A5-8562-9B994C8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811F6-BE53-421C-98C2-50047864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4EE44-C696-43B3-ADF6-EDB6FCF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DE612-2C74-427D-8BED-9F70929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FE0-E773-404B-BFC4-8667891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89FD2-2E77-4053-874A-85DB784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D8F43-6844-45AD-AAB9-CE7B474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88504-4170-4563-8EDB-F464407F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90237-998D-40E0-8774-D618D987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83539-81BA-4AF5-950C-60F30D7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A2090-6181-4815-AD21-D8E0D300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40BC1-2778-4868-900B-A0B7554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A14B9-2260-4DB8-B1A4-223FE3F9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42386-8F1C-4CBE-96E0-954B855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7CE28-C0BB-466B-9D37-5BDFE060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E63-FF87-4CFF-A85E-8FD41F9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B184E-122E-411A-B9C3-D6F95A10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AC6EC-49A1-4EBB-968F-712AAF1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561E7-B2C5-47B9-8693-5F55AC5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E9AA3-A447-45E6-A574-2D6F3E2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A1B86-18E6-49B9-80E8-FE531B3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C2AF3-28C8-4851-8350-58460008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B7FDD-0717-4EA3-BAB9-8AF8BB87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25146-3C21-4387-B327-D2011620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A3103-8224-4A1B-906E-F9A0453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AAFAD-ED54-44C8-BB4C-F7E931E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A322-6321-4D2B-A33C-86087B2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99A69-A518-4D53-8B37-F659BB8F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4A202-DE6B-4F37-B3A0-58D17EC8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3334B-E192-490E-8061-8FC33347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4ADD9-7D94-4968-9493-66443C4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B0AE4-E7E3-434C-8526-A61EFDF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D4F8C-3E6D-4714-8CB8-0066D17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72ACC-1870-458C-8639-65E0DCF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DB23B-9BD6-4F35-BD05-BA23973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4CD0A-0A42-4AE6-AFC9-B9B26889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0FF84-BF87-43C6-8B34-974AB7F2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043-22C6-424A-9B73-86C52861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15E74-E46F-49A9-9AEA-297177DF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8748C-B73B-457B-82C8-6F66E901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C048D-9DB0-4D3F-A868-D96B794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84D1A-780D-45A5-882A-2F870B85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320EB-BF49-418F-ADEE-2DFD0F8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0A3D1-9A6E-4596-B7AB-DFF7AD4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17530-CDEA-4B1D-88D2-91CD17CE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B85EA-08CD-4DDA-8230-D0F9DFD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765E9-1779-4C75-B7C6-B7C0EE18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EB60C-16AE-47DF-81CA-1ADFB814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301-025D-4E29-B894-4DDBA62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89579-BAA6-40C4-8780-CE41FC9C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52972-8823-4F50-A7C4-07485B56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7875B-9C08-41DA-A9C8-277D7C5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04BD3-611C-4A2F-A19A-970C329B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89E04-593B-4FA3-9C85-4D3C7683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F5F17-D32D-4702-ADA5-407EA446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C7FB4-3A32-4481-9CB8-883F2C5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87E7A-368F-4982-9968-9A8E5FD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04113-2F99-4114-BB17-FA5E786C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E1AAF-F064-4C3D-8F39-F21B501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BCCC-AC9C-4C48-AB62-DA810DF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440B9-F222-45A5-AA4C-D9D644B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E6EAD-42C8-4A30-8AF1-F21F58BE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79DA0-3AFA-4FA1-9B9A-B68FF699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B0CE8-2A07-4ED4-BF42-E45D9032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B008A-396B-4C2E-842D-EE7C2455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10FEB-7512-4A77-A511-7DCF3B7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CE4DA-4F63-471F-BA5E-30468EF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ECC96-70B0-4832-A5E5-EFA245EA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FE157-C825-44DD-B961-0B7CEB9F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37227-F114-4FD0-B6DF-9F84AA5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857-DF7E-49C7-8903-9C1D3A7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92C-4A70-45FF-A2AF-10A311E2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4ADCD-A6E9-4B84-BC18-C0ABEC5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78278-37F9-434A-A4D5-C75FB53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9A801-3BC4-435C-8B40-0F195A39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FC5B8-E1E5-42F8-9C42-BE439780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0C4B0-55E1-40E4-821D-B9FCA5FF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CF602-5875-4D12-9C30-9EEB8597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18BBD-DA63-4843-A869-5784D21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7376C-8C69-4F78-8143-90F9226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D9038-4875-4A7C-AC98-1E64FF0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037A2-E8ED-4031-BBC6-FF31FE6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7054-7FCF-4BAB-B6E5-782AF6A3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01DA8-1AAE-4276-9F5C-FC27B0A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27153-1E10-45B5-BEF2-9D9982C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5B23A-63BB-4E4C-AC4F-1392ABC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55B34-79E9-482B-AA49-7611B265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1B3AE8-B006-4574-9D1E-0A190D8E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22FC6-70CD-41F1-9D9A-1F471DB1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36F8B-C4AD-4539-8F50-A5768E35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98500-EB6A-42EC-9C85-A3BD07E0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6DC58-A0A8-4A28-94CF-BF49F824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99BAD-207A-44F3-A60F-50B19225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239-C6D3-4F72-9DCD-C6BE51D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2E2DC-F8DB-481D-B7DB-40FD1A7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F09BC-F37E-457D-ADE0-51E221B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86C38-ED7E-485F-8BA9-11928BF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A23B4-4D21-43BA-B58E-5B88039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5E0C1-A46F-4F62-9DC2-31F3D2D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9E890-7FE1-421F-81B8-71062FD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EFA24-8215-4A34-861E-40FAA66B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2E487-B9C3-419E-BF27-67B75976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30871-2623-45A2-AD10-DA8F4C70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AFCA6-227F-42A7-BA93-D7A9B113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1C99-C8FF-422D-B2E8-89EE7ACB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B3E79-3DAD-4545-B531-6548870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8916C-CEDC-4A2C-9EAF-EC85E00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0A7D9-4547-4488-AAAD-9B757FA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F086B-DB3D-49FB-BE6D-AD9FC915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86CC6-7CEA-4D23-9069-50CCDB40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66663-E37B-499C-A15B-659ABDC2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D297D-5CED-4695-86BB-7D29BF1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93E85-95CD-400B-A22C-A00F3CC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F8444-D433-41EB-B70F-2C0A514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87569-F93A-4298-9B28-6EEEEA6B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904-111A-4403-A0BB-03527B2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77FAA9-02C6-4634-9B04-8F4B8847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4C63E-3CB6-4B05-A7BC-BA70D1D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F9567-4DE8-4193-B9E1-0B46D2F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6E380-BC71-46FA-B064-3FE078E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4BA79E-83C2-4009-A0DE-96B4A1C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C1339-A5AF-4C97-9D1C-4FC8170B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4F2D6-EB1C-4C90-82C0-7D00FFAD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EEC0A-02ED-43F2-9307-F7E00DA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A6EC4-6EDF-4CC3-A1EB-ADC61F9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D32B1-9474-4F08-BA07-A3AEDC3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1D8E-4FC1-4E50-A1A6-C87B0C82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2D493-F632-44F9-83A9-E39F89FD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7C8FA-2974-4892-B784-6B1B54A3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76FA2-7195-41AA-B1EB-04BB74E7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5A04-BDF8-4184-BC2E-B2E18F8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0890-D6A1-4D95-BE16-50EB442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02CD-14EB-4C1A-B02E-565A479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0DF2-B3EA-469E-AF94-A261931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596-34D8-4B02-9C64-10933FF6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41B8-3E4B-4DAC-83E4-1482770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F168-3558-4716-AC3B-D9B72C0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612E-C4ED-4137-9EB8-1110E2C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EC29-0AAE-4CA2-BCC7-05CB41F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A9ED-D9A1-438D-9D1D-6439DCD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C22F-DFF5-4D23-B1B4-116B666C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F940-2B9E-43F1-A322-C784FB96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95EB-D113-4EF3-AA8E-5DBE210A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63EE5-06D3-4F70-A0D5-30CFF095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6ED0-9EFC-4380-B2D5-F59B2D28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D3F-71C7-4EA5-80F6-EB349F3D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D8DB-84A9-4B8D-A83E-5B1F301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323E-AF1B-4F40-AB86-9C4E2F35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4704-4E8E-454A-B552-91910FD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6655-ED34-4A0E-9DA5-2A06D86E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74E5-9E42-45E0-8362-BEEF498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B787-1780-48B9-A8BA-1A40A7B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E16D-B52D-415F-BBFF-985214C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8B1C-FBB5-47BD-ADC6-5FCB5997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7339-CFA5-43D1-BF99-D683A50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63A4-7D4D-48A7-BE5A-0E97B264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2B9-72E9-4000-AD3D-2B1B94B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84A3-5109-4998-AA19-4D037633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5D65-0EE8-4F41-B4FD-C070196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B0E7-6694-4A27-A268-ED5A9D4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FDE3-1FB6-4495-9C18-32D06CD7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8094-664C-4691-BCE1-4E7A1472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0373-D6D7-4080-8DFB-A42E27C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7F7E-10B2-4D84-9D79-89F3C3C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24AF-4698-4583-BDEC-104175C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CD9C-0C9E-438F-9B6F-72F70B6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A3AE-BF0C-4F62-A793-8E19FE2D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5A9-CEFF-41DC-9ECC-6523F9D2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D2A9-628A-4ED3-821B-01FB5AAA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3BEB-7D7D-4F34-92C1-3B9A284B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F986-3083-47C1-91CE-8621A72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E7764-61B0-4FFF-90C8-48565092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5B45-1AB9-4135-B7A7-C9830F4B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4E92-1EBA-45F8-B479-8A54361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A95A-62CF-435E-B587-B215137B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1CE2E-EA56-4FA0-B3E5-61B7EC2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0C32-7944-486A-9012-573FF22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37FB-C6C6-49E5-97B9-4AF47FA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D21-058E-4C59-9B55-163238F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0DDC9-E489-4850-9A56-DE90A01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857E-1A75-49FC-A16F-703FA915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CD15-85B1-4293-ADBC-000C2730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ADDA-8761-470D-B253-126DE0E1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A3D3-A958-4581-945A-4ED4CC98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4547-BC28-4AA1-AB02-3466917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C73A-BC4D-4524-9E91-C9DD248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9313-ED12-4ADE-9F8A-0F75B7A0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C35E9-8E85-4B9A-A243-D6EC75D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5AF83-0862-4C21-8531-51F6D30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177-88E6-4165-91ED-FCFA600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9336-EAD3-415C-B8B1-80BC997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D90D-6CC5-4109-BE6D-E535577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9CF7-5FB5-46A6-A0C4-FE32CEE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7F1B-3ED0-4F4A-B0F7-041E129B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F841-C0B6-4845-B58B-6AF6ECF5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D4A4-B04E-4327-84AA-EC605433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43F2-B68E-4D92-8B48-DF28583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963B-BC69-436F-B861-41A5DFE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3D16-C9AF-480F-AD9D-35257BE0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F6E6-E93E-4C3E-829C-522E1A4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20D-0885-48E7-947D-7E4CD56C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0AAC-0E99-4761-8456-9C58F98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DF6E-EC4D-44FE-9909-9462564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8A80-6885-46D1-8BCF-6072D1B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1B795-5D17-4218-9710-9E230C3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7E32B-3FE8-4ED1-94BD-7BB3D708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7D32C-98F2-4831-9BE8-6372EC14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4CA3-242A-40DA-8400-1CF98297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B624F-67DF-472B-BEE5-FAFFFCA4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7CBC-2429-404D-8183-8185BE9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9CCE-CCBB-4784-83DE-ED99ED9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C82-7F7E-442F-8541-677858AD3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B9C4-FA13-4C87-AE0B-F7E6FD9A7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BCF-9934-4D1F-9ACB-284731EF4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BF8-3900-4A3B-BACD-4BD580808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706-49FA-4FD6-869F-1C8000FE0E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2B5-0F41-413E-91B7-E28C44DB0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222C-5907-4C95-A2F7-8FFFA28746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1DE-3F82-4738-9D24-848E5CBD2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D221-E5D4-4A85-8F3C-2F8DB8A7CF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D04-D5CD-4E9F-A8FE-CF0B61777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7B64-FA69-4180-9219-25FA073A1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EEE-F970-415A-B8FD-4DB7A19C5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4348-B20B-43CD-94F1-F666955FA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65C-0813-4B0C-AD86-FE4A56364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8A8F-E84C-4D89-ACD8-25FD0C97E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E91-DBA3-43F2-A7B3-E109459389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668-EBEB-469D-8B4E-6B34298E0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DDA-AF99-4374-BC30-D160D2D30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D904-B176-4A4A-B473-24FED5829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3D9-2973-4A38-9069-2303346BD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E560-901A-4863-A827-D09C165F8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2B2-1BC6-432F-8591-AE977BF59A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36B-D008-4F3C-AC2D-BB6D9974E6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43CD-15BE-4B36-893B-2E2F63E3D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5DF-A220-4050-BD6B-73067CBA5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37E-7AA7-41E6-BCF0-ED3344A2D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F68A-2316-4565-8D04-645F59286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65C-4FCE-40F0-BEBE-0EBEA2BBA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34F1-B2DB-4346-A850-B346A9641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3375-60B1-4871-9175-D837EFF00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A4F-8E06-44AB-AC4F-74B2FFCCB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4E5-E595-4C04-A265-19E2F059C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7D54-2037-4F28-AEAB-4AD31800C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EDAA-CD48-4AF2-B47F-AE77D77E2C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F0B-647A-43E2-A43A-7E2F023F1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CDD-A09C-429C-8DB2-4EB9D4279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7B5-C955-46D2-AEDC-D0F437ABF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87B1-49C5-4B9D-BD98-6BDBEC847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9EE3-F26F-429F-AD3A-953CA155E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82E-11A3-449D-B02F-5B08300B4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14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image" Target="../media/image24.png"/><Relationship Id="rId10" Type="http://schemas.openxmlformats.org/officeDocument/2006/relationships/image" Target="../media/image14.png"/><Relationship Id="rId11" Type="http://schemas.openxmlformats.org/officeDocument/2006/relationships/image" Target="../media/image2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0080" y="2590920"/>
            <a:ext cx="8943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871560" y="1036800"/>
            <a:ext cx="7400880" cy="4552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1271520" y="5619600"/>
            <a:ext cx="7010640" cy="9050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2181240" y="36482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4227480" y="39546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2211480" y="45925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6"/>
          <a:stretch/>
        </p:blipFill>
        <p:spPr>
          <a:xfrm>
            <a:off x="2214720" y="5235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7"/>
          <a:stretch/>
        </p:blipFill>
        <p:spPr>
          <a:xfrm>
            <a:off x="2211480" y="589104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9" name="Picture 1" descr=""/>
          <p:cNvPicPr/>
          <p:nvPr/>
        </p:nvPicPr>
        <p:blipFill>
          <a:blip r:embed="rId1"/>
          <a:stretch/>
        </p:blipFill>
        <p:spPr>
          <a:xfrm>
            <a:off x="119160" y="1519200"/>
            <a:ext cx="8905680" cy="38196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2"/>
          <a:stretch/>
        </p:blipFill>
        <p:spPr>
          <a:xfrm>
            <a:off x="963720" y="37306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3"/>
          <a:stretch/>
        </p:blipFill>
        <p:spPr>
          <a:xfrm>
            <a:off x="963720" y="4041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4"/>
          <a:stretch/>
        </p:blipFill>
        <p:spPr>
          <a:xfrm>
            <a:off x="963720" y="4361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5"/>
          <a:stretch/>
        </p:blipFill>
        <p:spPr>
          <a:xfrm>
            <a:off x="988920" y="4697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6"/>
          <a:stretch/>
        </p:blipFill>
        <p:spPr>
          <a:xfrm>
            <a:off x="976320" y="50338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95600" y="1496880"/>
            <a:ext cx="2152800" cy="276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123840" y="2712960"/>
            <a:ext cx="8896320" cy="3019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1533600" y="4464000"/>
            <a:ext cx="360360" cy="254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3000240" y="4441680"/>
            <a:ext cx="360360" cy="254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4643280" y="4464000"/>
            <a:ext cx="358920" cy="2541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6072120" y="4464000"/>
            <a:ext cx="358920" cy="254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7643880" y="444168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95280" y="874800"/>
            <a:ext cx="8086680" cy="485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" descr=""/>
          <p:cNvPicPr/>
          <p:nvPr/>
        </p:nvPicPr>
        <p:blipFill>
          <a:blip r:embed="rId2"/>
          <a:stretch/>
        </p:blipFill>
        <p:spPr>
          <a:xfrm>
            <a:off x="328680" y="5945040"/>
            <a:ext cx="8486640" cy="723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1025640" y="1403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5114880" y="13953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1058760" y="29703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5148360" y="29624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7"/>
          <a:stretch/>
        </p:blipFill>
        <p:spPr>
          <a:xfrm>
            <a:off x="1000080" y="44830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42920" y="765000"/>
            <a:ext cx="8858160" cy="2581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477720" y="3500280"/>
            <a:ext cx="8487000" cy="31338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500040" y="1143000"/>
            <a:ext cx="850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3486240" y="1127160"/>
            <a:ext cx="2171520" cy="285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"/>
          <p:cNvPicPr/>
          <p:nvPr/>
        </p:nvPicPr>
        <p:blipFill>
          <a:blip r:embed="rId2"/>
          <a:stretch/>
        </p:blipFill>
        <p:spPr>
          <a:xfrm>
            <a:off x="695160" y="2130480"/>
            <a:ext cx="7753680" cy="39625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1341360" y="26640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4"/>
          <a:stretch/>
        </p:blipFill>
        <p:spPr>
          <a:xfrm>
            <a:off x="3997440" y="26686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5"/>
          <a:stretch/>
        </p:blipFill>
        <p:spPr>
          <a:xfrm>
            <a:off x="6459480" y="26766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6"/>
          <a:stretch/>
        </p:blipFill>
        <p:spPr>
          <a:xfrm>
            <a:off x="1353960" y="3436920"/>
            <a:ext cx="360720" cy="316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7"/>
          <a:stretch/>
        </p:blipFill>
        <p:spPr>
          <a:xfrm>
            <a:off x="3976560" y="34416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8"/>
          <a:stretch/>
        </p:blipFill>
        <p:spPr>
          <a:xfrm>
            <a:off x="1366920" y="43466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9"/>
          <a:stretch/>
        </p:blipFill>
        <p:spPr>
          <a:xfrm>
            <a:off x="1341360" y="4643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10"/>
          <a:stretch/>
        </p:blipFill>
        <p:spPr>
          <a:xfrm>
            <a:off x="1341360" y="50007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11"/>
          <a:stretch/>
        </p:blipFill>
        <p:spPr>
          <a:xfrm>
            <a:off x="1341360" y="5429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12"/>
          <a:stretch/>
        </p:blipFill>
        <p:spPr>
          <a:xfrm>
            <a:off x="1341360" y="57862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8353440" cy="22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2" descr=""/>
          <p:cNvPicPr/>
          <p:nvPr/>
        </p:nvPicPr>
        <p:blipFill>
          <a:blip r:embed="rId2"/>
          <a:stretch/>
        </p:blipFill>
        <p:spPr>
          <a:xfrm>
            <a:off x="698400" y="433692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3"/>
          <a:stretch/>
        </p:blipFill>
        <p:spPr>
          <a:xfrm>
            <a:off x="1000080" y="2714760"/>
            <a:ext cx="19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4"/>
          <a:stretch/>
        </p:blipFill>
        <p:spPr>
          <a:xfrm>
            <a:off x="1357200" y="321480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5"/>
          <a:stretch/>
        </p:blipFill>
        <p:spPr>
          <a:xfrm>
            <a:off x="4000680" y="2714760"/>
            <a:ext cx="1942920" cy="447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6"/>
          <a:stretch/>
        </p:blipFill>
        <p:spPr>
          <a:xfrm>
            <a:off x="4357800" y="321480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7"/>
          <a:stretch/>
        </p:blipFill>
        <p:spPr>
          <a:xfrm>
            <a:off x="7000920" y="2714760"/>
            <a:ext cx="194292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8"/>
          <a:stretch/>
        </p:blipFill>
        <p:spPr>
          <a:xfrm>
            <a:off x="7358040" y="321480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9"/>
          <a:stretch/>
        </p:blipFill>
        <p:spPr>
          <a:xfrm>
            <a:off x="857160" y="5429160"/>
            <a:ext cx="19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10"/>
          <a:stretch/>
        </p:blipFill>
        <p:spPr>
          <a:xfrm>
            <a:off x="1214280" y="5929200"/>
            <a:ext cx="1143000" cy="316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11"/>
          <a:stretch/>
        </p:blipFill>
        <p:spPr>
          <a:xfrm>
            <a:off x="3929040" y="5429160"/>
            <a:ext cx="19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12"/>
          <a:stretch/>
        </p:blipFill>
        <p:spPr>
          <a:xfrm>
            <a:off x="4286160" y="5929200"/>
            <a:ext cx="11430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" descr=""/>
          <p:cNvPicPr/>
          <p:nvPr/>
        </p:nvPicPr>
        <p:blipFill>
          <a:blip r:embed="rId2"/>
          <a:stretch/>
        </p:blipFill>
        <p:spPr>
          <a:xfrm>
            <a:off x="676440" y="1852560"/>
            <a:ext cx="7791120" cy="34480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1336680" y="21686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1353960" y="2786040"/>
            <a:ext cx="360720" cy="316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1328760" y="3424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1320840" y="4041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7"/>
          <a:stretch/>
        </p:blipFill>
        <p:spPr>
          <a:xfrm>
            <a:off x="1341360" y="47307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219240" y="836640"/>
            <a:ext cx="8705520" cy="44100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2"/>
          <a:stretch/>
        </p:blipFill>
        <p:spPr>
          <a:xfrm>
            <a:off x="595440" y="5359320"/>
            <a:ext cx="7648560" cy="1238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831960" y="1143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853920" y="24289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857160" y="36720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866880" y="4613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841320" y="534024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Picture 1" descr=""/>
          <p:cNvPicPr/>
          <p:nvPr/>
        </p:nvPicPr>
        <p:blipFill>
          <a:blip r:embed="rId1"/>
          <a:stretch/>
        </p:blipFill>
        <p:spPr>
          <a:xfrm>
            <a:off x="468360" y="1255680"/>
            <a:ext cx="6010200" cy="2228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" descr=""/>
          <p:cNvPicPr/>
          <p:nvPr/>
        </p:nvPicPr>
        <p:blipFill>
          <a:blip r:embed="rId2"/>
          <a:stretch/>
        </p:blipFill>
        <p:spPr>
          <a:xfrm>
            <a:off x="835200" y="3500280"/>
            <a:ext cx="7134120" cy="2953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3"/>
          <a:stretch/>
        </p:blipFill>
        <p:spPr>
          <a:xfrm>
            <a:off x="2071800" y="1852560"/>
            <a:ext cx="928440" cy="3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4"/>
          <a:stretch/>
        </p:blipFill>
        <p:spPr>
          <a:xfrm>
            <a:off x="3903840" y="1862280"/>
            <a:ext cx="928440" cy="315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5"/>
          <a:stretch/>
        </p:blipFill>
        <p:spPr>
          <a:xfrm>
            <a:off x="2714760" y="2814480"/>
            <a:ext cx="928440" cy="3160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6"/>
          <a:stretch/>
        </p:blipFill>
        <p:spPr>
          <a:xfrm>
            <a:off x="4000680" y="2827440"/>
            <a:ext cx="928440" cy="315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7"/>
          <a:stretch/>
        </p:blipFill>
        <p:spPr>
          <a:xfrm>
            <a:off x="2071800" y="3865680"/>
            <a:ext cx="928440" cy="3157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8"/>
          <a:stretch/>
        </p:blipFill>
        <p:spPr>
          <a:xfrm>
            <a:off x="3286080" y="3865680"/>
            <a:ext cx="1143000" cy="3157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9"/>
          <a:stretch/>
        </p:blipFill>
        <p:spPr>
          <a:xfrm>
            <a:off x="3193920" y="4668840"/>
            <a:ext cx="928800" cy="3160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10"/>
          <a:stretch/>
        </p:blipFill>
        <p:spPr>
          <a:xfrm>
            <a:off x="4643280" y="4668840"/>
            <a:ext cx="571680" cy="3160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11"/>
          <a:stretch/>
        </p:blipFill>
        <p:spPr>
          <a:xfrm>
            <a:off x="2882880" y="5954760"/>
            <a:ext cx="642960" cy="3157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12"/>
          <a:stretch/>
        </p:blipFill>
        <p:spPr>
          <a:xfrm>
            <a:off x="3962520" y="5942160"/>
            <a:ext cx="135720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3:2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